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68FC-103B-457B-AF26-C53EB8B0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E0A5-A110-444F-BE76-539131C8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2468-3082-4116-B674-2B9F0B15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9F99-8F2C-4F2F-8E0A-D9D7F1EF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217A-D84A-41B3-825E-03551B07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6E84-DFA4-4F19-9F0E-18B228FF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CA6F-219F-4FD0-9ECF-C82B2DCA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6F60-2D46-4A02-9065-A4B02324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D4F8-35D2-4886-A7E0-17033F6F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1F35-A5A6-43B6-B637-7D093717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C878-2885-4218-8B61-42F1F7A5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C3BF-1849-44AC-8001-77D9A9D9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1E90-4080-42C2-90FF-F176AE47B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LLEND  50TH                                      I.B.M.                                                I.B.M.                                     INNELLAN                                             INNELLAN                                   INNELLAN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NELLAN  150TH                                       INVERKIP                              INVERKIP  100TH                              KILMACOLM                                  KINGARTH                      KIRN  &amp;  HUNTERS  QUAY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0520" y="0"/>
            <a:ext cx="176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13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N                                                       KIRN                                            KIRN                                          KIRN  100TH                                 LADY  ALICE                                LADY  ALICE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310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DY  ALICE  50TH                          LADY  ALICE  75TH                              PARKLEA                                 PARKLEA  50TH                          PORT  GLASGOW                           PORT  GLASGOW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21600" y="333360"/>
            <a:ext cx="85896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31800" y="1989000"/>
            <a:ext cx="1116000" cy="109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289240" y="2060640"/>
            <a:ext cx="107928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097600" y="191628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608880" y="2060640"/>
            <a:ext cx="1079280" cy="1060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8193240" y="2349360"/>
            <a:ext cx="841320" cy="814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631800" y="3357720"/>
            <a:ext cx="1206360" cy="1376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657600" y="3500280"/>
            <a:ext cx="1133640" cy="1266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2289240" y="3357720"/>
            <a:ext cx="1133280" cy="1412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5097600" y="3357720"/>
            <a:ext cx="1261800" cy="1361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6537240" y="357336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8048520" y="3645000"/>
            <a:ext cx="1079640" cy="1060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2216160" y="5300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631800" y="5084640"/>
            <a:ext cx="1133640" cy="1362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3657600" y="537372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5168880" y="5373720"/>
            <a:ext cx="1042920" cy="1096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6608880" y="5300640"/>
            <a:ext cx="1042920" cy="1157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8048520" y="5229360"/>
            <a:ext cx="1024200" cy="117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6681960" y="260280"/>
            <a:ext cx="914400" cy="1084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4881600" y="115920"/>
            <a:ext cx="1206360" cy="1316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3657600" y="260280"/>
            <a:ext cx="98748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3800520" y="2133720"/>
            <a:ext cx="911160" cy="1027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704880" y="549360"/>
            <a:ext cx="1096920" cy="826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2216160" y="189000"/>
            <a:ext cx="99864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09:38:52Z</dcterms:created>
  <dc:creator>JOHN YOUNG</dc:creator>
  <dc:description/>
  <dc:language>en-US</dc:language>
  <cp:lastModifiedBy>JY</cp:lastModifiedBy>
  <dcterms:modified xsi:type="dcterms:W3CDTF">2007-10-19T14:04:52Z</dcterms:modified>
  <cp:revision>33</cp:revision>
  <dc:subject/>
  <dc:title>No Slide Title</dc:title>
</cp:coreProperties>
</file>